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744-BC7C-44CD-9105-788520F7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4E0-03BE-4C70-92C2-05D6BC4E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C65-977D-4DA1-B553-7B1D829D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06B-3E25-4FB1-97F5-48EA460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68D-284F-4712-81C5-DA101AE4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F08-0CA8-4491-83AE-A8A07859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77E-3ED2-40FF-B84F-549FBEFF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2EF-382C-435E-A72D-7CB341D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128-5971-4228-A151-C978C153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AE1-2F33-4ADF-AD7E-C60C178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475-4CF8-4B83-B4E9-A3664B77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E23-A2A3-4DA5-85CE-AA9B647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829-14D0-443A-87CB-EE0EBE7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0AC-E3DA-4CB2-9930-89769A6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191-A4C3-40EE-8758-6EB9230F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-2556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yasia W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324480" y="0"/>
            <a:ext cx="18288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yasia W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yasia Wright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yasia Wri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yasia Wr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escuela es muy  buena. Nuestros clase es facil. Pero tenemos qu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contrar la historia de Mexico de estudios sociales y escribir un pap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Yo tengo un divertida dia. Como es tu nueva escue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! Como estas?  Tengo un mal dia. </a:t>
            </a:r>
            <a:r>
              <a:rPr b="0" lang="en-US" sz="7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Que estas haciendo? Donde esta? Tenemos que habla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05520"/>
            <a:ext cx="44197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oy con mi familia y estamos en el parque. Podemos ir comer manana. Tienes 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contrame mi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114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! Adios mi bonita y joven y fuerte y intelligente amiga! Tenemos que Camin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52280" y="3657600"/>
            <a:ext cx="1828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 llama es Nya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ght. Yo vive en Nuev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rk.Yo tengo quince anos. Yo soy gracios y muy fuerte. Si, Yo tengo uno hermano y una herman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4:23Z</dcterms:created>
  <dc:creator>FriscoISD</dc:creator>
  <dc:description/>
  <dc:language>en-US</dc:language>
  <cp:lastModifiedBy>NYCDOE</cp:lastModifiedBy>
  <dcterms:modified xsi:type="dcterms:W3CDTF">2012-12-07T14:08:10Z</dcterms:modified>
  <cp:revision>102</cp:revision>
  <dc:subject/>
  <dc:title>Profile</dc:title>
</cp:coreProperties>
</file>